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83C-C036-42C5-B483-60F4E780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624-367F-44A6-9C48-E5B01278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7D2-4DC4-4FF3-AC40-C41BB304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2E9-23AF-4AC3-9586-2573884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7AE0-8233-4EA5-B3A6-D18F24D8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493F-8887-47F0-B406-D0CCE7F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CCB2-4530-4FB3-9007-4CFD6B8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0048-BD5B-4525-A8E2-FCE7A8BD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0DF-E2F0-4AAE-A3C9-F38A8760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510B-74C2-4411-9A0E-F054D30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EE18-AFA9-414F-B931-B7F428B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848-58BD-4EE8-92B4-5AFE8F5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B6C7-C072-43F6-9409-425DB75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A1C-F13B-42E0-8F4F-6AC4765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1BF-600F-4EE1-BA9B-5E36B37A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8B76-3458-4F40-BB21-F9F1BD68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7BB4-1B14-4BA5-824E-63267835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DD2-A0D6-4339-86B0-3E12881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E0E-0617-4F14-AC3B-ED584AE5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DC6-CD61-4DB3-95CA-0FA4748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869-75D4-4463-8386-4596944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7F6-E4E9-4AB2-A903-82B0350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A16-20FE-402B-9C55-7C5FB81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B95-08EC-404A-8518-9D3F008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4FA-3423-42E9-87AF-B2503ED162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9483-D31B-4A2A-AC79-696653DC6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ия действующего предприят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действующих производственных объе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сформировать перечень необходимых мероприятий, подлежащих согласованию между застройщиком и генподрядной организацией, учесть дополнительные опасные факторы, возникающие при производстве работ на территории действующего предприятия, составить перечень дополнительных исходных материалов, необходимых для составления ПОС и ППР, в которых должны быть отражены конкретные условия выполнения СМР на территории действующего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о выделены факторы стесненности рабочих зон при выполнении СМР и ограниченной возможностью применения типовой техно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79560" y="1590840"/>
            <a:ext cx="753408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9640" y="1504800"/>
            <a:ext cx="73404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7200" y="1125360"/>
            <a:ext cx="678348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строительно-монтажных работ в условиях действующего предприятия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03240" y="1293840"/>
            <a:ext cx="6150240" cy="26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4:58Z</dcterms:modified>
  <cp:revision>267</cp:revision>
  <dc:subject/>
  <dc:title>Слайд 1</dc:title>
</cp:coreProperties>
</file>